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5200-4318-436C-80FE-B3F0D515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55CF-09FA-4B2F-82E9-326E7252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0C68E-9196-4F9C-A9BF-1F0B4856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159A8-2342-4D14-AD11-6E26DB8D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07A7-EAC1-4E22-AC39-9CF3340F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1496-8F4B-469A-A777-C2841EE5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AB39-F9DA-4848-A3CB-A4E470B3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111E-1A36-4102-8A6C-37ABA37B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3D9A-4CB1-4C34-B325-8DEDD91B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FF7B-CB30-4E70-A417-B53DBB37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EC96-AF5D-47C5-A2B2-82F2AB08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B9B09-314A-46E7-B178-9E1E0CBF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7843-F9CB-4997-838B-639D6BBD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44FA-B06F-429A-9A49-5AE48321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F05D-A41A-4ACF-AD40-C2CC8E97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79E2-D031-48F8-8A56-C35232E6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7723-FC7F-4538-8F79-0AFCD8F8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E0D58-47DA-4227-9233-D144244C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1128-7E50-490B-BF0A-74CA2221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FF698-E25D-42D7-86EA-20994B66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63FB0-C261-44EC-B966-454849CD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C33E8-0A08-4F01-AD4F-093346E4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9B818-BEC1-4FDE-BC58-A8783F49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8FC93-EBC1-4D19-9063-3F07F32E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784B-F226-4851-B4A4-0E75BD58E22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DC0D-E683-4520-AF76-06457A4633D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8.xml"/><Relationship Id="rId14" Type="http://schemas.openxmlformats.org/officeDocument/2006/relationships/slide" Target="slide29.xml"/><Relationship Id="rId15" Type="http://schemas.openxmlformats.org/officeDocument/2006/relationships/slide" Target="slide30.xml"/><Relationship Id="rId16" Type="http://schemas.openxmlformats.org/officeDocument/2006/relationships/slide" Target="slide31.xml"/><Relationship Id="rId17" Type="http://schemas.openxmlformats.org/officeDocument/2006/relationships/slide" Target="slide32.xml"/><Relationship Id="rId18" Type="http://schemas.openxmlformats.org/officeDocument/2006/relationships/slide" Target="slide33.xml"/><Relationship Id="rId19" Type="http://schemas.openxmlformats.org/officeDocument/2006/relationships/slide" Target="slide40.xml"/><Relationship Id="rId2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m_043"/>
          <p:cNvPicPr/>
          <p:nvPr/>
        </p:nvPicPr>
        <p:blipFill>
          <a:blip r:embed="rId1"/>
          <a:stretch/>
        </p:blipFill>
        <p:spPr>
          <a:xfrm>
            <a:off x="6012000" y="476280"/>
            <a:ext cx="2857320" cy="3181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2857680"/>
            <a:ext cx="6516720" cy="100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e3aa91"/>
                </a:solidFill>
                <a:latin typeface="Arial"/>
              </a:rPr>
              <a:t>3 раунд игры «Самый умный химик»,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-252360" y="4266720"/>
            <a:ext cx="9648720" cy="19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посвященной 150 – лети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периодической таблицы химических элементов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Д.И. Менделее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600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Ответ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 они проводили параллель только между сходными элементами, даже не сравнивая явно несходные, такие, например, как натрий и хл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684360" y="5084640"/>
            <a:ext cx="158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6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cccc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Na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cccc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WordArt 6"/>
          <p:cNvSpPr txBox="1"/>
          <p:nvPr/>
        </p:nvSpPr>
        <p:spPr>
          <a:xfrm>
            <a:off x="6804000" y="1197000"/>
            <a:ext cx="151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AutoShape 10">
            <a:hlinkClick r:id="rId1" action="ppaction://hlinksldjump"/>
          </p:cNvPr>
          <p:cNvSpPr/>
          <p:nvPr/>
        </p:nvSpPr>
        <p:spPr>
          <a:xfrm rot="10800000">
            <a:off x="7956360" y="6453360"/>
            <a:ext cx="865080" cy="28872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1800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2707920"/>
            <a:ext cx="896472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 времени открытия Периодического закона было известно 63 химических элемен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1979640" y="436572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</a:t>
            </a:r>
            <a:endParaRPr b="1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4427640" y="1557360"/>
            <a:ext cx="100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3aa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e</a:t>
            </a:r>
            <a:endParaRPr b="1" lang="en-US" sz="1800" spc="1" strike="noStrike">
              <a:ln w="0">
                <a:noFill/>
              </a:ln>
              <a:solidFill>
                <a:srgbClr val="e3aa9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WordArt 6"/>
          <p:cNvSpPr txBox="1"/>
          <p:nvPr/>
        </p:nvSpPr>
        <p:spPr>
          <a:xfrm>
            <a:off x="3203640" y="4869000"/>
            <a:ext cx="93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i</a:t>
            </a:r>
            <a:endParaRPr b="1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5580000" y="5445000"/>
            <a:ext cx="1008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6e3d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l</a:t>
            </a:r>
            <a:endParaRPr b="1" lang="en-US" sz="1800" spc="1" strike="noStrike">
              <a:ln w="0">
                <a:noFill/>
              </a:ln>
              <a:solidFill>
                <a:srgbClr val="f6e3d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WordArt 8"/>
          <p:cNvSpPr txBox="1"/>
          <p:nvPr/>
        </p:nvSpPr>
        <p:spPr>
          <a:xfrm>
            <a:off x="8028000" y="404640"/>
            <a:ext cx="863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WordArt 9"/>
          <p:cNvSpPr txBox="1"/>
          <p:nvPr/>
        </p:nvSpPr>
        <p:spPr>
          <a:xfrm>
            <a:off x="395280" y="5445000"/>
            <a:ext cx="86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5f5f5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5f5f5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WordArt 10"/>
          <p:cNvSpPr txBox="1"/>
          <p:nvPr/>
        </p:nvSpPr>
        <p:spPr>
          <a:xfrm>
            <a:off x="5580000" y="4005360"/>
            <a:ext cx="79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N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WordArt 11"/>
          <p:cNvSpPr txBox="1"/>
          <p:nvPr/>
        </p:nvSpPr>
        <p:spPr>
          <a:xfrm>
            <a:off x="250920" y="2205000"/>
            <a:ext cx="115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c0c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g</a:t>
            </a:r>
            <a:endParaRPr b="1" lang="en-US" sz="1800" spc="1" strike="noStrike">
              <a:ln w="0">
                <a:noFill/>
              </a:ln>
              <a:solidFill>
                <a:srgbClr val="c0c0c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WordArt 12"/>
          <p:cNvSpPr txBox="1"/>
          <p:nvPr/>
        </p:nvSpPr>
        <p:spPr>
          <a:xfrm>
            <a:off x="6299280" y="1557360"/>
            <a:ext cx="93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c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e</a:t>
            </a:r>
            <a:endParaRPr b="1" lang="en-US" sz="1800" spc="1" strike="noStrike">
              <a:ln w="0">
                <a:noFill/>
              </a:ln>
              <a:solidFill>
                <a:srgbClr val="ffcc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WordArt 13"/>
          <p:cNvSpPr txBox="1"/>
          <p:nvPr/>
        </p:nvSpPr>
        <p:spPr>
          <a:xfrm>
            <a:off x="7812000" y="3789360"/>
            <a:ext cx="100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u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" name="AutoShape 15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4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4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4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671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 вытекает из названия первого варианта системы Д.И. Менделеева «Опыт системы элементов, основанной на атомном весе и химическом сходств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1815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2349360"/>
            <a:ext cx="86756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чь идет о скандии, галлии, германи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539640" y="3141720"/>
            <a:ext cx="1656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3132000" y="4365720"/>
            <a:ext cx="1944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99"/>
                  </a:solidFill>
                  <a:miter/>
                </a:ln>
                <a:solidFill>
                  <a:srgbClr val="ffcccc">
                    <a:alpha val="50000"/>
                  </a:srgbClr>
                </a:solidFill>
                <a:effectLst>
                  <a:outerShdw dist="107932" dir="135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Ga</a:t>
            </a:r>
            <a:endParaRPr b="0" lang="en-US" sz="1800" spc="1" strike="noStrike">
              <a:ln w="12600">
                <a:solidFill>
                  <a:srgbClr val="ffcc99"/>
                </a:solidFill>
                <a:miter/>
              </a:ln>
              <a:solidFill>
                <a:srgbClr val="ffcccc">
                  <a:alpha val="50000"/>
                </a:srgbClr>
              </a:solidFill>
              <a:effectLst>
                <a:outerShdw dist="107932" dir="135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6659640" y="3068640"/>
            <a:ext cx="177948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cc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cc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AutoShape 11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4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4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3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671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620360"/>
            <a:ext cx="91440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3424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ных, которые своими работами подтверждали справедливость периодического закона. Это прежде всего П. Лекок де Буабодран, Л. Нильсон,             К. Винклер. Они открыли предсказанные Д.И. Менделеевым галлий, скандий, герма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468360" y="404640"/>
            <a:ext cx="136692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3419640" y="5516640"/>
            <a:ext cx="1079280" cy="10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99"/>
                  </a:solidFill>
                  <a:miter/>
                </a:ln>
                <a:solidFill>
                  <a:srgbClr val="ffcccc">
                    <a:alpha val="50000"/>
                  </a:srgbClr>
                </a:solidFill>
                <a:effectLst>
                  <a:outerShdw dist="107932" dir="135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Ga</a:t>
            </a:r>
            <a:endParaRPr b="0" lang="en-US" sz="1800" spc="1" strike="noStrike">
              <a:ln w="12600">
                <a:solidFill>
                  <a:srgbClr val="ffcc99"/>
                </a:solidFill>
                <a:miter/>
              </a:ln>
              <a:solidFill>
                <a:srgbClr val="ffcccc">
                  <a:alpha val="50000"/>
                </a:srgbClr>
              </a:solidFill>
              <a:effectLst>
                <a:outerShdw dist="107932" dir="135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3995640" y="692280"/>
            <a:ext cx="122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cc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cc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AutoShape 8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4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174312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толбцы таблицы попали элементы, далекие по свойствам от тех, которые расположены над ними: хром, титан, марганец и железо. В таблице Ньюлендса не было мест для размещения еще не открытых элементов, отсутствовало деление элементов на группы и периоды, поэтому непонятен физический смысл рядов и столбц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5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3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915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звания каких химических элементов происходят от названий частей све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6288120" y="404640"/>
            <a:ext cx="2855880" cy="28450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">
            <a:hlinkClick r:id="rId2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9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435880" cy="23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из химических элементов сначала был найден астрономами, а уже позже его открытие подтвердили химик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rcRect l="25505" t="28635" r="18429" b="17022"/>
          <a:stretch/>
        </p:blipFill>
        <p:spPr>
          <a:xfrm>
            <a:off x="6588000" y="476280"/>
            <a:ext cx="2232000" cy="192708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7">
            <a:hlinkClick r:id="rId2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2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3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3616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-шутк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2781000"/>
            <a:ext cx="8569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Если к названию элемента прибавить одну букву, то получится синоним слова «метель». О каком элементе идет реч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3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2997360"/>
            <a:ext cx="842508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лемент, название которого в переводе с латинского – «утренняя заря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6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3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сканирование0001"/>
          <p:cNvPicPr/>
          <p:nvPr/>
        </p:nvPicPr>
        <p:blipFill>
          <a:blip r:embed="rId1"/>
          <a:stretch/>
        </p:blipFill>
        <p:spPr>
          <a:xfrm rot="826200">
            <a:off x="6659640" y="259920"/>
            <a:ext cx="3216240" cy="2239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79280" y="857160"/>
            <a:ext cx="84963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«Другого ничего в природе 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Ни здесь, ни там, в космических глубина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Все – от песчинок малых до планет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Из элементов состоит еди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Как формула, как график трудов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Строй менделеевской системы строг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Вокруг тебя творится мир жив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Входи в него, вдыхай, руками трогай</a:t>
            </a:r>
            <a:r>
              <a:rPr b="0" lang="ru-RU" sz="2800" spc="-1" strike="noStrike">
                <a:solidFill>
                  <a:srgbClr val="ffcc99"/>
                </a:solidFill>
                <a:latin typeface="Bookman Old Style"/>
              </a:rPr>
              <a:t>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99"/>
                </a:solidFill>
                <a:latin typeface="Bookman Old Style"/>
              </a:rPr>
              <a:t>С.Щипач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2247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424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и металла имеют магнитные свойства. Назовите порядковые номера химических элементов, из атомов которых эти металлы состоя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6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3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210348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«Алхимическом словаре» Руланда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(1612)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этот элемент отнесен к металлам и назван «легчайшим, бледнейшим и дешевейшим свинцом». В России его называли то «нимфой», то «глаурой», то «демогоргоном». Происхождение современного названия элемента тоже покрыто тайной. Одни считают, что оно происходит от арабских слов «би исмид» — похожий на сурьму. Другие предполагают, что название элемента древнегерманского происхождения и означает «белый металл». Атомы элемента имеют электронную конфигурацию [Хе]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 Что это за элемент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5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2174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мент №63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европий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зван в честь Европы, элемент №95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америций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в честь Амер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324000" y="4508640"/>
            <a:ext cx="1296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Eu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6659640" y="836640"/>
            <a:ext cx="165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Am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5" name="AutoShape 7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3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2247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7848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элемент №2 – гелий (от греческого «гелиос» - солнце), открытый астрономами Ж. Жансеном и Н. Локьером, а также химиками У. Рамзаем и П. Кле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6732720" y="907920"/>
            <a:ext cx="18716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AutoShape 6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3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1815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 элементе № 92 – уране  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e3aa91"/>
                </a:solidFill>
                <a:latin typeface="Arial"/>
              </a:rPr>
              <a:t>(уран – буран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2195640" y="4149720"/>
            <a:ext cx="1584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ecff">
                    <a:alpha val="50000"/>
                  </a:srgbClr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U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ecff">
                  <a:alpha val="50000"/>
                </a:srgbClr>
              </a:soli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AutoShape 6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3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4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600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63280" y="2707920"/>
            <a:ext cx="692316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лемент № 79 – золот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WordArt 5"/>
          <p:cNvSpPr txBox="1"/>
          <p:nvPr/>
        </p:nvSpPr>
        <p:spPr>
          <a:xfrm>
            <a:off x="2916360" y="3500280"/>
            <a:ext cx="295092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3fca2"/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Au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3fca2"/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7" name="AutoShape 6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3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1743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6697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6, 27, 28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Железо, кобальт, никель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900000" y="4221000"/>
            <a:ext cx="2232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F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WordArt 6"/>
          <p:cNvSpPr txBox="1"/>
          <p:nvPr/>
        </p:nvSpPr>
        <p:spPr>
          <a:xfrm>
            <a:off x="4859280" y="4797360"/>
            <a:ext cx="187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c0c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Times New Roman"/>
              </a:rPr>
              <a:t>Co</a:t>
            </a:r>
            <a:endParaRPr b="1" lang="en-US" sz="1800" spc="1" strike="noStrike">
              <a:ln w="0">
                <a:noFill/>
              </a:ln>
              <a:solidFill>
                <a:srgbClr val="c0c0c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7451640" y="2997360"/>
            <a:ext cx="1513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N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3" name="AutoShape 8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3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3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3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3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4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4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4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520" y="620640"/>
            <a:ext cx="1815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3640" y="2781360"/>
            <a:ext cx="85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мент-путаник – это висмут, легкоплавкий диамагнитный металл красновато-белого цвета, последний по номеру элемент Периодической системы, не обладающий естественной радиоактивностью. Висмут в свободном виде впервые выделил в 1739 году немецкий химик Иоганн Генрих Пот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WordArt 4"/>
          <p:cNvSpPr txBox="1"/>
          <p:nvPr/>
        </p:nvSpPr>
        <p:spPr>
          <a:xfrm>
            <a:off x="5651640" y="981000"/>
            <a:ext cx="172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3aa91"/>
                  </a:solidFill>
                  <a:miter/>
                </a:ln>
                <a:solidFill>
                  <a:srgbClr val="ffcccc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Bi</a:t>
            </a:r>
            <a:endParaRPr b="0" lang="en-US" sz="1800" spc="1" strike="noStrike">
              <a:ln w="9360">
                <a:solidFill>
                  <a:srgbClr val="e3aa91"/>
                </a:solidFill>
                <a:miter/>
              </a:ln>
              <a:solidFill>
                <a:srgbClr val="ffcccc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7" name="AutoShape 6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4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2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2103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3644640"/>
            <a:ext cx="882000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26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, в чём заключался научный подвиг  Д. И. Менделее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6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Pm00040"/>
          <p:cNvPicPr/>
          <p:nvPr/>
        </p:nvPicPr>
        <p:blipFill>
          <a:blip r:embed="rId1"/>
          <a:stretch/>
        </p:blipFill>
        <p:spPr>
          <a:xfrm>
            <a:off x="5867280" y="404640"/>
            <a:ext cx="3030480" cy="309564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6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3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000"/>
                            </p:stCondLst>
                            <p:childTnLst>
                              <p:par>
                                <p:cTn id="5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3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3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6000"/>
                            </p:stCondLst>
                            <p:childTnLst>
                              <p:par>
                                <p:cTn id="6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2247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2052720"/>
            <a:ext cx="842508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зовите пару химических элементов, расположенных в периодической таблице не в порядке возрастания, а в порядке уменьшения атомных мас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3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3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2565360"/>
          <a:ext cx="8785440" cy="3613320"/>
        </p:xfrm>
        <a:graphic>
          <a:graphicData uri="http://schemas.openxmlformats.org/drawingml/2006/table">
            <a:tbl>
              <a:tblPr/>
              <a:tblGrid>
                <a:gridCol w="4006800"/>
                <a:gridCol w="795600"/>
                <a:gridCol w="798480"/>
                <a:gridCol w="795240"/>
                <a:gridCol w="795240"/>
                <a:gridCol w="798480"/>
                <a:gridCol w="795600"/>
              </a:tblGrid>
              <a:tr h="85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c76ec"/>
                          </a:solidFill>
                          <a:latin typeface="Arial"/>
                        </a:rPr>
                        <a:t>Открытие периодического закон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3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c76ec"/>
                          </a:solidFill>
                          <a:latin typeface="Arial"/>
                        </a:rPr>
                        <a:t>Путешествие по периодической систем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c76ec"/>
                          </a:solidFill>
                          <a:latin typeface="Arial"/>
                        </a:rPr>
                        <a:t>Вклад Д.И.Менделеева в открытие периодического закона и периодической систе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57"/>
          <p:cNvSpPr/>
          <p:nvPr/>
        </p:nvSpPr>
        <p:spPr>
          <a:xfrm>
            <a:off x="1619280" y="476280"/>
            <a:ext cx="75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Периодическому закону будущее не грозит разрушением, а только надстройку и развитие обещает.</a:t>
            </a:r>
            <a:r>
              <a:rPr b="0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Д.И.Менделе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83">
            <a:hlinkClick r:id="rId19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3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2103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000" y="3143160"/>
            <a:ext cx="8451720" cy="12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элементов предсказал и подробно описал  Д. И. Менделеев? Назовите эти химические элементы в современном и историческом сти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https://misanec.ru/wp-content/uploads/2016/01/002.jpg"/>
          <p:cNvPicPr/>
          <p:nvPr/>
        </p:nvPicPr>
        <p:blipFill>
          <a:blip r:embed="rId1"/>
          <a:stretch/>
        </p:blipFill>
        <p:spPr>
          <a:xfrm>
            <a:off x="4500720" y="500040"/>
            <a:ext cx="36432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3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SP_A0452"/>
          <p:cNvPicPr/>
          <p:nvPr/>
        </p:nvPicPr>
        <p:blipFill>
          <a:blip r:embed="rId1"/>
          <a:stretch/>
        </p:blipFill>
        <p:spPr>
          <a:xfrm>
            <a:off x="6200640" y="333360"/>
            <a:ext cx="2943360" cy="33847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2247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56760" y="2786040"/>
            <a:ext cx="6715080" cy="26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овите одного из ученых, кого Д. И. Менделеев называл «укрепителями периодического закон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3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3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3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6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560" y="1500120"/>
            <a:ext cx="85359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какую группу поместил Д. И. Менделеев инертные газы? До какого года она просуществовал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6" descr="C:\Users\Инна Юрьевна\Desktop\blagorodnye-gazy_1.jpg"/>
          <p:cNvPicPr/>
          <p:nvPr/>
        </p:nvPicPr>
        <p:blipFill>
          <a:blip r:embed="rId1"/>
          <a:stretch/>
        </p:blipFill>
        <p:spPr>
          <a:xfrm>
            <a:off x="928800" y="3500280"/>
            <a:ext cx="40240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3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92000" y="404640"/>
            <a:ext cx="21034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тому учёному Д.И.Менделеев предложил проверить удельный вес, открытого им химического элемента спектральным анализом и предсказанным великим учёным. Назовите химический элемент и учёного – спектроскопис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3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1743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435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ткрытии периодического зак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9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2" descr="https://prezentacii.org/uploads/files/19/01/119639/data/pres/screen4.jpg"/>
          <p:cNvPicPr/>
          <p:nvPr/>
        </p:nvPicPr>
        <p:blipFill>
          <a:blip r:embed="rId1"/>
          <a:srcRect l="46876" t="27372" r="12841" b="12894"/>
          <a:stretch/>
        </p:blipFill>
        <p:spPr>
          <a:xfrm>
            <a:off x="4214880" y="714240"/>
            <a:ext cx="45608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3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88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6000" y="1643040"/>
            <a:ext cx="6742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8 - 19 (аргон-калий)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7-28 (кобальт-никель)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52-53 (теллур - йод)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90 - 91(торий - протакти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3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3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6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3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3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6000"/>
                            </p:stCondLst>
                            <p:childTnLst>
                              <p:par>
                                <p:cTn id="6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3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3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9000"/>
                            </p:stCondLst>
                            <p:childTnLst>
                              <p:par>
                                <p:cTn id="6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3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3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2103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казал 12, подробно  описал 3 – экаалюминий (галлий), экабор (скандий), экасилиций (герман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https://misanec.ru/wp-content/uploads/2016/01/002.jpg"/>
          <p:cNvPicPr/>
          <p:nvPr/>
        </p:nvPicPr>
        <p:blipFill>
          <a:blip r:embed="rId1"/>
          <a:stretch/>
        </p:blipFill>
        <p:spPr>
          <a:xfrm>
            <a:off x="2928960" y="3303720"/>
            <a:ext cx="36432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3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3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3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сканирование0001"/>
          <p:cNvPicPr/>
          <p:nvPr/>
        </p:nvPicPr>
        <p:blipFill>
          <a:blip r:embed="rId1"/>
          <a:stretch/>
        </p:blipFill>
        <p:spPr>
          <a:xfrm>
            <a:off x="6286680" y="3000240"/>
            <a:ext cx="1731960" cy="1756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1815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2214720"/>
            <a:ext cx="8820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. Лекокк де Буабодран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. Винклер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.Ф. Нильсон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. Рамз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http://vashurok.ru/ckeditor_assets/pictures/1084/original_194088_or.jpg"/>
          <p:cNvPicPr/>
          <p:nvPr/>
        </p:nvPicPr>
        <p:blipFill>
          <a:blip r:embed="rId2"/>
          <a:stretch/>
        </p:blipFill>
        <p:spPr>
          <a:xfrm>
            <a:off x="4572000" y="142920"/>
            <a:ext cx="3610080" cy="2665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C:\Users\Инна Юрьевна\Desktop\000030.jpg"/>
          <p:cNvPicPr/>
          <p:nvPr/>
        </p:nvPicPr>
        <p:blipFill>
          <a:blip r:embed="rId3"/>
          <a:stretch/>
        </p:blipFill>
        <p:spPr>
          <a:xfrm>
            <a:off x="2714760" y="2928960"/>
            <a:ext cx="2314440" cy="3048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C:\Users\Инна Юрьевна\Desktop\lars_fredrik_nilson.png"/>
          <p:cNvPicPr/>
          <p:nvPr/>
        </p:nvPicPr>
        <p:blipFill>
          <a:blip r:embed="rId4"/>
          <a:stretch/>
        </p:blipFill>
        <p:spPr>
          <a:xfrm>
            <a:off x="5072040" y="2214720"/>
            <a:ext cx="3270240" cy="17143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C:\Users\Инна Юрьевна\Desktop\Mark-Richard-Milbanke-Sir-William-Ramsay-1852-1916-.jpg"/>
          <p:cNvPicPr/>
          <p:nvPr/>
        </p:nvPicPr>
        <p:blipFill>
          <a:blip r:embed="rId5"/>
          <a:stretch/>
        </p:blipFill>
        <p:spPr>
          <a:xfrm>
            <a:off x="5715000" y="3929040"/>
            <a:ext cx="2052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3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3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3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7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3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3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9000"/>
                            </p:stCondLst>
                            <p:childTnLst>
                              <p:par>
                                <p:cTn id="7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3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3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0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23640" y="1356840"/>
            <a:ext cx="8435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улевая группа. Она просуществовала до 1962 го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6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6" descr="C:\Users\Инна Юрьевна\Desktop\cea580a55dce70d8c90cabe208b9b4a1.jpg"/>
          <p:cNvPicPr/>
          <p:nvPr/>
        </p:nvPicPr>
        <p:blipFill>
          <a:blip r:embed="rId1"/>
          <a:stretch/>
        </p:blipFill>
        <p:spPr>
          <a:xfrm>
            <a:off x="1428840" y="2857680"/>
            <a:ext cx="48225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3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3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1600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000" y="1785960"/>
            <a:ext cx="4174920" cy="30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мент галлий (экаалюминий). Учёный – Лекок де Буабод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https://feanoturiblog.files.wordpress.com/2017/04/lecoq.jpg?w=700"/>
          <p:cNvPicPr/>
          <p:nvPr/>
        </p:nvPicPr>
        <p:blipFill>
          <a:blip r:embed="rId1"/>
          <a:srcRect l="13235" t="0" r="13976" b="0"/>
          <a:stretch/>
        </p:blipFill>
        <p:spPr>
          <a:xfrm>
            <a:off x="4429080" y="1214280"/>
            <a:ext cx="35481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3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3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3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о попыток классификации химических элементов до Д.И. Менделеева, считая варианты таблиц, достигало 50.  Некоторые из ученых (Л. Мейер, Д. Ньюлендс) очень близко подошли к открытию закона. И все же им не удалось довести свои попытки до завершения. Укажите основной недостаток в работах всех предшественников Д.И. Менделее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Image270"/>
          <p:cNvPicPr/>
          <p:nvPr/>
        </p:nvPicPr>
        <p:blipFill>
          <a:blip r:embed="rId1"/>
          <a:stretch/>
        </p:blipFill>
        <p:spPr>
          <a:xfrm>
            <a:off x="6443640" y="476280"/>
            <a:ext cx="2448000" cy="138600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2">
            <a:hlinkClick r:id="rId2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WordArt 7"/>
          <p:cNvSpPr txBox="1"/>
          <p:nvPr/>
        </p:nvSpPr>
        <p:spPr>
          <a:xfrm>
            <a:off x="2340000" y="1628640"/>
            <a:ext cx="619272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78" name="Group 8"/>
          <p:cNvGrpSpPr/>
          <p:nvPr/>
        </p:nvGrpSpPr>
        <p:grpSpPr>
          <a:xfrm>
            <a:off x="6659640" y="4095720"/>
            <a:ext cx="2286000" cy="2286000"/>
            <a:chOff x="6659640" y="4095720"/>
            <a:chExt cx="2286000" cy="2286000"/>
          </a:xfrm>
        </p:grpSpPr>
        <p:sp>
          <p:nvSpPr>
            <p:cNvPr id="279" name="Oval 9"/>
            <p:cNvSpPr/>
            <p:nvPr/>
          </p:nvSpPr>
          <p:spPr>
            <a:xfrm>
              <a:off x="6659640" y="4095720"/>
              <a:ext cx="2286000" cy="2286000"/>
            </a:xfrm>
            <a:prstGeom prst="ellipse">
              <a:avLst/>
            </a:prstGeom>
            <a:noFill/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0" name="Picture 10" descr="сканирование0019"/>
            <p:cNvPicPr/>
            <p:nvPr/>
          </p:nvPicPr>
          <p:blipFill>
            <a:blip r:embed="rId1"/>
            <a:stretch/>
          </p:blipFill>
          <p:spPr>
            <a:xfrm>
              <a:off x="7230960" y="5238720"/>
              <a:ext cx="1143000" cy="86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WordArt 11"/>
            <p:cNvSpPr txBox="1"/>
            <p:nvPr/>
          </p:nvSpPr>
          <p:spPr>
            <a:xfrm>
              <a:off x="6786360" y="4667040"/>
              <a:ext cx="2072160" cy="97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Monotype Corsiva"/>
                </a:rPr>
                <a:t>САМЫЙ УМНЫЙ ХИМИК</a:t>
              </a:r>
              <a:endParaRPr b="1" lang="en-US" sz="2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Monotype Corsiva"/>
                <a:ea typeface="Monotype Corsiva"/>
              </a:endParaRPr>
            </a:p>
          </p:txBody>
        </p:sp>
        <p:sp>
          <p:nvSpPr>
            <p:cNvPr id="282" name="WordArt 12"/>
            <p:cNvSpPr txBox="1"/>
            <p:nvPr/>
          </p:nvSpPr>
          <p:spPr>
            <a:xfrm>
              <a:off x="7345440" y="4324320"/>
              <a:ext cx="971640" cy="3715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latin typeface="Monotype Corsiva"/>
                </a:rPr>
                <a:t>Знаток</a:t>
              </a:r>
              <a:endParaRPr b="1" lang="en-US" sz="2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Monotype Corsiva"/>
                <a:ea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144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химических элементов было известно ко времени открытия периодического зако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6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95640" y="549360"/>
            <a:ext cx="2031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371592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положил в основу классификации химических элементов Д.И.Менделее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сканирование0001"/>
          <p:cNvPicPr/>
          <p:nvPr/>
        </p:nvPicPr>
        <p:blipFill>
          <a:blip r:embed="rId1"/>
          <a:srcRect l="0" t="0" r="0" b="16451"/>
          <a:stretch/>
        </p:blipFill>
        <p:spPr>
          <a:xfrm rot="1036200">
            <a:off x="6659640" y="836640"/>
            <a:ext cx="1827000" cy="27464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0">
            <a:hlinkClick r:id="rId2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2103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964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ердо убежденный в справедливости периодического закона Д.И.Менделеев предпринимает невиданный в истории химической науки шаг. Он описывает свойства трех из предсказанных им элементов, их соединений и даже методы, которыми эти химические элементы могут быть получены. О каких элементах идет реч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6" descr="сканирование0002"/>
          <p:cNvPicPr/>
          <p:nvPr/>
        </p:nvPicPr>
        <p:blipFill>
          <a:blip r:embed="rId1">
            <a:lum bright="-24000"/>
          </a:blip>
          <a:srcRect l="25399" t="3625" r="13562" b="1519"/>
          <a:stretch/>
        </p:blipFill>
        <p:spPr>
          <a:xfrm rot="591000">
            <a:off x="6256440" y="601200"/>
            <a:ext cx="2255760" cy="15732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9">
            <a:hlinkClick r:id="rId2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8920" y="549360"/>
            <a:ext cx="188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84358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го Д.И.Менделеев называл «укрепителями» периодического зако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6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92360" y="404640"/>
            <a:ext cx="2247840" cy="7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6407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глийский химик Д. Ньюлэндс (1863 г.), располагая элементы последовательно в порядке возрастания их атомных масс, заметил, что восьмой по счету элемент повторяет свойство первого, подобно повторению звуков в музыкальной октаве, и назвал свою таблицу «законом октав»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9">
            <a:hlinkClick r:id="rId1" action="ppaction://hlinksldjump"/>
          </p:cNvPr>
          <p:cNvSpPr/>
          <p:nvPr/>
        </p:nvSpPr>
        <p:spPr>
          <a:xfrm>
            <a:off x="82789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55640" y="4854600"/>
          <a:ext cx="5904000" cy="1096920"/>
        </p:xfrm>
        <a:graphic>
          <a:graphicData uri="http://schemas.openxmlformats.org/drawingml/2006/table">
            <a:tbl>
              <a:tblPr/>
              <a:tblGrid>
                <a:gridCol w="843120"/>
                <a:gridCol w="842760"/>
                <a:gridCol w="843120"/>
                <a:gridCol w="846000"/>
                <a:gridCol w="843120"/>
                <a:gridCol w="842760"/>
                <a:gridCol w="843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L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B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M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C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C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M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F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52"/>
          <p:cNvSpPr/>
          <p:nvPr/>
        </p:nvSpPr>
        <p:spPr>
          <a:xfrm>
            <a:off x="0" y="6357960"/>
            <a:ext cx="8317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недостатки были присущи закону окта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41:35Z</dcterms:created>
  <dc:creator>User</dc:creator>
  <dc:description/>
  <dc:language>en-US</dc:language>
  <cp:lastModifiedBy>Инна Юрьевна</cp:lastModifiedBy>
  <dcterms:modified xsi:type="dcterms:W3CDTF">2019-11-17T17:14:49Z</dcterms:modified>
  <cp:revision>48</cp:revision>
  <dc:subject/>
  <dc:title>Урок - игра</dc:title>
</cp:coreProperties>
</file>